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399-CFF0-4479-9921-E76D5777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861-B96B-4B62-8788-36622FF2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ABA-86BD-4BDB-869C-A5CE3BB2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795-32EF-4F0D-AE26-E1943D44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0EB-C088-437B-B99B-1678E26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C17-912B-48DE-99C2-03B796B0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B0F-8AC9-4A85-93BC-3F963BA1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C93-D5BC-4042-8689-917FCDF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80D-A6BB-4D2D-BCE9-45814604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9F9-A66E-49C3-B635-B58AE50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CAA-0CD3-4279-BB6F-96C5179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BE9-E4A4-475E-9A7B-DCB3C54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FF79-DF69-4246-B305-A571192C70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 الذي يعر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قصى درجات صغر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أنت لا تخا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 تنزل عليّ وتنحني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كم أرجو طيبتكَ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 تهبني الموت من الحب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يسوع اسمع صرختي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واستمع صراخ حنان قلب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0:56:21Z</dcterms:created>
  <dc:creator>-</dc:creator>
  <dc:description/>
  <dc:language>en-US</dc:language>
  <cp:lastModifiedBy>ف</cp:lastModifiedBy>
  <dcterms:modified xsi:type="dcterms:W3CDTF">2006-04-13T18:08:57Z</dcterms:modified>
  <cp:revision>4</cp:revision>
  <dc:subject/>
  <dc:title>أنت الذي يعرفُ أقصى درجات صغري وأنت لا تخافُ أن تنزل عليّ وتنحني </dc:title>
</cp:coreProperties>
</file>